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332000" y="3213000"/>
            <a:ext cx="4842000" cy="4600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1863720" y="260280"/>
            <a:ext cx="979560" cy="927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2916360" y="765000"/>
            <a:ext cx="4751280" cy="327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20000" y="5799240"/>
            <a:ext cx="194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Obiettivi gene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di TS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20000" y="1774800"/>
            <a:ext cx="1944720" cy="3816360"/>
            <a:chOff x="7020000" y="1774800"/>
            <a:chExt cx="1944720" cy="3816360"/>
          </a:xfrm>
        </p:grpSpPr>
        <p:sp>
          <p:nvSpPr>
            <p:cNvPr id="45" name=""/>
            <p:cNvSpPr/>
            <p:nvPr/>
          </p:nvSpPr>
          <p:spPr>
            <a:xfrm>
              <a:off x="7020000" y="1990800"/>
              <a:ext cx="1944720" cy="3600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20000" y="1774800"/>
              <a:ext cx="1944720" cy="30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Rounded MT Bold"/>
                </a:rPr>
                <a:t>genera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20000" y="2424240"/>
              <a:ext cx="19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INNOV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20000" y="2998800"/>
              <a:ext cx="1944720" cy="30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Rounded MT Bold"/>
                </a:rPr>
                <a:t>declinabile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20000" y="3432240"/>
              <a:ext cx="1944720" cy="19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PRODU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I CONOSCEN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TRASFERI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FORMAZIO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LUN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L’AR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ELLA V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859280" y="1774800"/>
            <a:ext cx="1944720" cy="3816360"/>
            <a:chOff x="4859280" y="1774800"/>
            <a:chExt cx="1944720" cy="3816360"/>
          </a:xfrm>
        </p:grpSpPr>
        <p:sp>
          <p:nvSpPr>
            <p:cNvPr id="51" name=""/>
            <p:cNvSpPr/>
            <p:nvPr/>
          </p:nvSpPr>
          <p:spPr>
            <a:xfrm>
              <a:off x="4859280" y="1990800"/>
              <a:ext cx="1944720" cy="3600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9280" y="1774800"/>
              <a:ext cx="1944720" cy="30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Rounded MT Bold"/>
                </a:rPr>
                <a:t>agisce su 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59280" y="2424240"/>
              <a:ext cx="19447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VALORI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de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SOCIETA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859280" y="5799240"/>
            <a:ext cx="1944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Istruzione te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Piccole Medie Imprese (P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799240"/>
            <a:ext cx="1944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Progetti di rice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Centri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di serv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5280" y="1774800"/>
            <a:ext cx="1944720" cy="3816360"/>
            <a:chOff x="395280" y="1774800"/>
            <a:chExt cx="1944720" cy="3816360"/>
          </a:xfrm>
        </p:grpSpPr>
        <p:sp>
          <p:nvSpPr>
            <p:cNvPr id="57" name=""/>
            <p:cNvSpPr/>
            <p:nvPr/>
          </p:nvSpPr>
          <p:spPr>
            <a:xfrm>
              <a:off x="395280" y="1919160"/>
              <a:ext cx="1944720" cy="3672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1774800"/>
              <a:ext cx="1944720" cy="30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Rounded MT Bold"/>
                </a:rPr>
                <a:t>un insieme 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2424240"/>
              <a:ext cx="1944720" cy="25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RISO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UM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RELAZIO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PROFESSIO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95280" y="57992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Rounded MT Bold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27280" y="1774800"/>
            <a:ext cx="1944720" cy="3816360"/>
            <a:chOff x="2627280" y="1774800"/>
            <a:chExt cx="1944720" cy="3816360"/>
          </a:xfrm>
        </p:grpSpPr>
        <p:sp>
          <p:nvSpPr>
            <p:cNvPr id="62" name=""/>
            <p:cNvSpPr/>
            <p:nvPr/>
          </p:nvSpPr>
          <p:spPr>
            <a:xfrm>
              <a:off x="2627280" y="1990800"/>
              <a:ext cx="1944720" cy="360036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7280" y="1774800"/>
              <a:ext cx="1944720" cy="307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Rounded MT Bold"/>
                </a:rPr>
                <a:t>che, attraver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27280" y="2424240"/>
              <a:ext cx="1944720" cy="22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STRUM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OPERATIV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GENER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Rounded MT Bold"/>
                </a:rPr>
                <a:t>SPECIFI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2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pianto Generale: dinamica di T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 modello concettuale: quattro “attor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09840" y="2055960"/>
            <a:ext cx="1944720" cy="3600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09840" y="1839960"/>
            <a:ext cx="1944720" cy="307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Istruzione te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09840" y="2205000"/>
            <a:ext cx="1944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Sistema che interagisce </a:t>
            </a:r>
            <a:r>
              <a:rPr b="1" lang="en-US" sz="1300" spc="-1" strike="noStrike">
                <a:solidFill>
                  <a:srgbClr val="000000"/>
                </a:solidFill>
                <a:latin typeface="Arial Rounded MT Bold"/>
              </a:rPr>
              <a:t>in modo parziale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con la filiera della conoscenza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ielabora e trasferisce conoscenza “codificata” ad “utilizzatori futuri” attraverso modalità prevalentemente standardizz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09840" y="58644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Sistema privo di</a:t>
            </a:r>
            <a:br>
              <a:rPr sz="1300"/>
            </a:b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“input innovativo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74960"/>
            <a:ext cx="1944720" cy="36716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830240"/>
            <a:ext cx="1944720" cy="307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Conosc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209680"/>
            <a:ext cx="194472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valore caratterizzat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da una filiera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che comprende le fasi d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generazione (produzi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quisi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ielabo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d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asfer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utilizz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85468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Società della</a:t>
            </a:r>
            <a:br>
              <a:rPr sz="1300"/>
            </a:b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conoscenz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0560" y="2046240"/>
            <a:ext cx="1944720" cy="3600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0560" y="1830240"/>
            <a:ext cx="1944720" cy="307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Sistema delle P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0560" y="2205000"/>
            <a:ext cx="19447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Sistema che interagisce </a:t>
            </a:r>
            <a:r>
              <a:rPr b="1" lang="en-US" sz="1300" spc="-1" strike="noStrike">
                <a:solidFill>
                  <a:srgbClr val="000000"/>
                </a:solidFill>
                <a:latin typeface="Arial Rounded MT Bold"/>
              </a:rPr>
              <a:t>in modo parziale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con la filiera della conoscenza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utilizza conoscenza, prevalentemente “tacita” (esperienz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0560" y="585468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Sistema privo di</a:t>
            </a:r>
            <a:br>
              <a:rPr sz="1300"/>
            </a:br>
            <a:r>
              <a:rPr b="0" lang="en-US" sz="1300" spc="-1" strike="noStrike">
                <a:solidFill>
                  <a:srgbClr val="ff0000"/>
                </a:solidFill>
                <a:latin typeface="Arial Rounded MT Bold"/>
              </a:rPr>
              <a:t>“input innovativo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5857920"/>
            <a:ext cx="1944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ff0000"/>
                </a:solidFill>
                <a:latin typeface="Arial Rounded MT Bold"/>
              </a:rPr>
              <a:t>“</a:t>
            </a:r>
            <a:r>
              <a:rPr b="0" lang="it-IT" sz="1300" spc="-1" strike="noStrike">
                <a:solidFill>
                  <a:srgbClr val="ff0000"/>
                </a:solidFill>
                <a:latin typeface="Arial Rounded MT Bold"/>
              </a:rPr>
              <a:t>righe” della “matrice TSSS” e modalità “Assessment Center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0920" y="2049480"/>
            <a:ext cx="1944720" cy="360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0920" y="1833480"/>
            <a:ext cx="1944720" cy="307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Il “motore” di T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0920" y="2205000"/>
            <a:ext cx="194472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Macchina “virtuale” che interagisce </a:t>
            </a:r>
            <a:r>
              <a:rPr b="1" lang="en-US" sz="1300" spc="-1" strike="noStrike">
                <a:solidFill>
                  <a:srgbClr val="000000"/>
                </a:solidFill>
                <a:latin typeface="Arial Rounded MT Bold"/>
              </a:rPr>
              <a:t>in modo completo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con la filiera della conoscenza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ge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acquisi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rielab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cod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trasferisce conoscenza “codificata” innovativa ad “utilizzatori attuali” attraverso modalità prevalentemente differenz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09840" y="2324160"/>
            <a:ext cx="2014560" cy="37688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09840" y="2205000"/>
            <a:ext cx="2014560" cy="24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ircuito per la socializz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09840" y="2617920"/>
            <a:ext cx="19447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La “risorda umana” TSSS (scolastica e non scolastica) rielabora e codifica le conoscenze innovative acquisite, sperimentandone la trasferibilità attraverso la progettazione, la gestione e la valutazione di attività destinate all’intera risorsa umana dell’Associazione TS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Le tipologie di tali attività si riferiscono alla “matrice TSSS” (aree di intervento e ambiti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760" y="2243160"/>
            <a:ext cx="2017800" cy="38498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760" y="2205000"/>
            <a:ext cx="2017800" cy="376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ircuito per l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rice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760" y="2617920"/>
            <a:ext cx="19447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La “risorsa umana” TSSS (scolastica e non scolastica) partecipando a progetti, di solito promossi attraverso partner non scolastici, genera e acquisisce conoscenze innovati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Rounded MT Bold"/>
              </a:rPr>
              <a:t>Vengono privilegiati quei progetti che hanno specifici riferimenti a parametri qual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6200" y="2314440"/>
            <a:ext cx="2017800" cy="360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6200" y="2205000"/>
            <a:ext cx="2017800" cy="398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ircuito p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l’istituzione scolas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6200" y="2617920"/>
            <a:ext cx="19447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La “risorsa umana” TSSS, diventata equipe di formazione rispetto a determinate conoscenze innovative, offre all’istituzione scolastica (MIUR, Direz. Scol. regionali, CSA provinciali) il trasferimento di tali conoscen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Destinatar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Personale scolast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5640" y="2317680"/>
            <a:ext cx="2016000" cy="360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5640" y="2205000"/>
            <a:ext cx="2016000" cy="398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ircuito 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il terri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2617920"/>
            <a:ext cx="201456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La “risorsa umana” TSSS, organizzata per gruppi territoriali (sempre supportati a livello generale) fornisce l’alimentazione permanente dei Centri territoriali di servizi, che i diversi Istituti Tecnici organizzano attivando partenariati in ambito loca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Dalla “formazione standardizzata” del Circuito per l’istituzione scolastica si ricavano le competenze per organizzare i servizi territoriali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760" y="4005360"/>
            <a:ext cx="194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92160" indent="-92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brevet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risultati di ricerca di base e/o applic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benchma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 Rounded MT Bold"/>
              </a:rPr>
              <a:t>nuovi merc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760" y="1773360"/>
            <a:ext cx="4105080" cy="376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Generazione, acquisizione, rielaborazione,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odifica di conosc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1773360"/>
            <a:ext cx="4105080" cy="376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Trasferimento di conoscenza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4759200"/>
            <a:ext cx="2017800" cy="231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Servizio “standardizzato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5640" y="4759200"/>
            <a:ext cx="2017440" cy="215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Servizio “personalizzato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9840" y="4759200"/>
            <a:ext cx="2017800" cy="215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 Rounded MT Bold"/>
              </a:rPr>
              <a:t>Servizio “pre-standardizzato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5640" y="5068800"/>
            <a:ext cx="2017440" cy="33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Alternanza scuola/lavoro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5640" y="5502240"/>
            <a:ext cx="2017440" cy="580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Personale delle imprese: utilizzatori “attuali” della conosc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Cittadini: utilizzatori “attuali” della conosc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068800"/>
            <a:ext cx="2017440" cy="33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Alternanza insegnamento/aggiorn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4760" y="5502240"/>
            <a:ext cx="2017800" cy="580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Personale scolastico: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utilizzatori attuali della conosc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Studenti: utilizzatori “futuri” della conosc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09840" y="5068800"/>
            <a:ext cx="2017800" cy="642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Socializzazione tipicamente a due livelli: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Rounded MT Bold"/>
              </a:rPr>
              <a:t>Specialistico Divulgativo/orientativ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6165720"/>
            <a:ext cx="4105080" cy="224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Creazione dei servi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6165720"/>
            <a:ext cx="4105080" cy="224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Fruizione dei servi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760" y="6453360"/>
            <a:ext cx="4105080" cy="376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Ricerca: è l’alimentazione permanente di conoscenza per l’Associazione TS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6453360"/>
            <a:ext cx="4105080" cy="376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Formazione l’ungo l’arco della vita: è l’alimentazione permanente di conoscenza per l’Istruzione tecnica e il sistema delle P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 modello operativo: quattro “circui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5:31:50Z</dcterms:created>
  <dc:creator>Portatile Pier</dc:creator>
  <dc:description/>
  <dc:language>en-US</dc:language>
  <cp:lastModifiedBy>daniele.fuselli</cp:lastModifiedBy>
  <dcterms:modified xsi:type="dcterms:W3CDTF">2006-05-11T13:03:33Z</dcterms:modified>
  <cp:revision>66</cp:revision>
  <dc:subject/>
  <dc:title>Diapositiva 1</dc:title>
</cp:coreProperties>
</file>